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3D6-2914-419E-AEA6-B2A69667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25C-8DAD-4B6C-AFFE-8CB27BB9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531-493A-4F3E-9AC8-75E44D7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BF1-F89E-4DA6-BF00-94364F48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738-6026-457F-A586-9A8B2D65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69C-E6D3-4442-9681-22D98A5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4E3-5BE0-476B-A2BC-FF7E3B1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B92-B2AC-41B7-B958-8EDB1417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DCF-1097-4E86-8C00-A2E70D6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A4F-B91B-4958-ADAC-BEFA097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BB0-2416-4018-B99B-FB1BC77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51D-54A9-49C5-A4B9-541C10B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258A-4FBD-47D5-9DB6-96165B365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&amp;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the trend of movement to c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urban growth more common in MDC’s than LDC’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rojections predict major urban growth in LDC’s from the year 2000 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you think there is so much variation in describing the terms urban and c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2 factors combine to explain rapid urb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and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cities seems so attractive? (Pull factors of c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ain push factors of rural migration to urban ar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ould be “blamed” for rapid urbaniz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central issues/problems with rapid urban grow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ization and Globa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ain issues that impact the US because of urbanization and what do you think of the potential solutions giv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28:23Z</dcterms:created>
  <dc:creator>callen</dc:creator>
  <dc:description/>
  <dc:language>en-US</dc:language>
  <cp:lastModifiedBy>callen</cp:lastModifiedBy>
  <dcterms:modified xsi:type="dcterms:W3CDTF">2011-04-20T18:05:13Z</dcterms:modified>
  <cp:revision>4</cp:revision>
  <dc:subject/>
  <dc:title>Slide 1</dc:title>
</cp:coreProperties>
</file>